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19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13.wmf" ContentType="image/x-wmf"/>
  <Override PartName="/ppt/media/image27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8.jpeg" ContentType="image/jpeg"/>
  <Override PartName="/ppt/media/image2.wmf" ContentType="image/x-wmf"/>
  <Override PartName="/ppt/media/image21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6F6-A16A-47DE-90E1-37E5E680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DE1-6F50-4769-BC0B-A79F1EDE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AB2-BA3F-4FC9-A1DC-64288DAC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AD0-C185-4986-97EA-7FDFA36E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80B-62A6-4822-958E-726AFED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1DA-A368-4A16-813A-2881D6AC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7E2-E4FE-4463-A431-4BA3A869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C28-8555-4948-8500-8782A221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081-13FD-4460-A5E4-529292CC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4F3-3D98-4AEF-8A1F-4B43DF70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7AB-0C1E-46A6-A094-07F1B0E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063-11A1-44BF-A320-90B7CFD2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CA53-F50F-4598-AF3D-C8E6DB037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101;&#1057;&#1057;&#1045;.doc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360" y="475920"/>
            <a:ext cx="47498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Общие сведения об учителе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Фамилия</a:t>
            </a: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__   Андросова__________________    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Имя:</a:t>
            </a: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 __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Надежда_________________________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чество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0099"/>
                </a:solidFill>
                <a:latin typeface="Arial"/>
              </a:rPr>
              <a:t>__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Карловна_____________________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бразование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0099"/>
                </a:solidFill>
                <a:latin typeface="Arial"/>
              </a:rPr>
              <a:t>__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средне-специальное____________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Учебное заведение:__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ЯККИ, национальная культура 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Год окончания: __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2000______________________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Специальность и квалификация по диплому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педагог, организатор досуга, руководитель фольклорного коллектива</a:t>
            </a:r>
            <a:br>
              <a:rPr sz="1400"/>
            </a:br>
            <a:r>
              <a:rPr b="1" i="1" lang="ru-RU" sz="1400" spc="-1" strike="noStrike">
                <a:solidFill>
                  <a:srgbClr val="cc0099"/>
                </a:solidFill>
                <a:latin typeface="Arial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Стаж:</a:t>
            </a:r>
            <a:br>
              <a:rPr sz="1400"/>
            </a:br>
            <a:r>
              <a:rPr b="1" i="1" lang="ru-RU" sz="1400" spc="-1" strike="noStrike">
                <a:solidFill>
                  <a:srgbClr val="cc0099"/>
                </a:solidFill>
                <a:latin typeface="Arial"/>
              </a:rPr>
              <a:t>общий стаж работы:__32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_лет___________</a:t>
            </a:r>
            <a:br>
              <a:rPr sz="1400"/>
            </a:br>
            <a:r>
              <a:rPr b="1" i="1" lang="ru-RU" sz="1400" spc="-1" strike="noStrike">
                <a:solidFill>
                  <a:srgbClr val="cc0099"/>
                </a:solidFill>
                <a:latin typeface="Arial"/>
              </a:rPr>
              <a:t>Педагогический стаж: ___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17 лет_________</a:t>
            </a:r>
            <a:br>
              <a:rPr sz="1400"/>
            </a:br>
            <a:r>
              <a:rPr b="1" i="1" lang="ru-RU" sz="1400" spc="-1" strike="noStrike">
                <a:solidFill>
                  <a:srgbClr val="cc0099"/>
                </a:solidFill>
                <a:latin typeface="Arial"/>
              </a:rPr>
              <a:t>Стаж работы в данном ОУ:__</a:t>
            </a:r>
            <a:r>
              <a:rPr b="1" i="1" lang="ru-RU" sz="1400" spc="-1" strike="noStrike" u="sng">
                <a:solidFill>
                  <a:srgbClr val="cc0099"/>
                </a:solidFill>
                <a:uFillTx/>
                <a:latin typeface="Arial"/>
              </a:rPr>
              <a:t>17 лет___________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Год аттестации:</a:t>
            </a:r>
            <a:br>
              <a:rPr sz="1400"/>
            </a:b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0099"/>
                </a:solidFill>
                <a:latin typeface="Arial"/>
              </a:rPr>
              <a:t>Высшая категория в 200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80836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95280" y="716040"/>
          <a:ext cx="8497800" cy="5776920"/>
        </p:xfrm>
        <a:graphic>
          <a:graphicData uri="http://schemas.openxmlformats.org/drawingml/2006/table">
            <a:tbl>
              <a:tblPr/>
              <a:tblGrid>
                <a:gridCol w="576360"/>
                <a:gridCol w="1368360"/>
                <a:gridCol w="1792440"/>
                <a:gridCol w="1750680"/>
                <a:gridCol w="300996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Название струк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Место кур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Проблематика кур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ПК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. Якут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.09– 21.09. 95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ереподготовка учителя ЯН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ПК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. Якут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3.06 – 27.06 200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овременные образовательные технологии в преподавании якутского языка и литературы, ЯН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ПК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. Якут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4.03 –29.03 2003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Фондовая работа в музее. Учет изучения, хранение и реставрация музейных экспона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ИПК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.Черкех. Таттинский ул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.06 – 11.06.2003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Национальная специфика образовательной технологии на основе музейной педагог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ИПК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.Мельжехси.Мегино-Кангаласский ул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4.05 – 30.05.200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Предпрофильное, профильное обучение школьников и «Сатабыл» в системе модернизации образ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ИПК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.Майя. Мегино-Кангаласский улу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2.11 – 27.11.2007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«Обновление содержания т творческие подходы к преподаванию якутской литературы и ЯН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Федерация профсоюзов РС (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г..Якут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4.03 – 28.03.2008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Проблемные курсы председателей ПРОФК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ПК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.Майя.Мегино-Кангаласский ул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2.10 – 20.10.2009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Проблемные курсы новые формы диссеминации опыта педаг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Научно-методи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4000" y="907920"/>
          <a:ext cx="8353440" cy="5392800"/>
        </p:xfrm>
        <a:graphic>
          <a:graphicData uri="http://schemas.openxmlformats.org/drawingml/2006/table">
            <a:tbl>
              <a:tblPr/>
              <a:tblGrid>
                <a:gridCol w="936360"/>
                <a:gridCol w="1584360"/>
                <a:gridCol w="1860480"/>
                <a:gridCol w="1955880"/>
                <a:gridCol w="201636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2004-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с. Май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«Современный урок» - улусное педчт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«Олоххо кестер сиэр-туом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«О5ону иитиигэ музей оруол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Учащиеся 5 кл. гуманитарной шк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Руководители школьных музе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2005-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С.Майя ИП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Проблемные к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Улусный кон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«Музей экспонатын сэ</a:t>
                      </a: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энэ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Смотр МО Смотр школьных музе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Учащиеся 7 кл. Майинской гимназ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Учителя, руководители МО, музейные работн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2006-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с.Хороб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с. Май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с.Мельжех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КМ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улу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улу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«Суолга сэрэхтээх буолуохх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Конкурс веб-сай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Мастер-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Учащиеся 4 кл. Хоробутской средней шк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Участники семин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5280" y="692280"/>
          <a:ext cx="8229600" cy="5984640"/>
        </p:xfrm>
        <a:graphic>
          <a:graphicData uri="http://schemas.openxmlformats.org/drawingml/2006/table">
            <a:tbl>
              <a:tblPr/>
              <a:tblGrid>
                <a:gridCol w="922320"/>
                <a:gridCol w="1560600"/>
                <a:gridCol w="1833480"/>
                <a:gridCol w="1927080"/>
                <a:gridCol w="198612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.Мельжех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«Кимтэн кииннээхпит» -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Учащ-ся 10 кл. Юные исследователи,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.Тойбох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.Хат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.Бютейд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Республиканские Бессоновские 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Республиканские Самсоновские 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Республиканские НПК «Музей в О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«Роль школьного музея в патриотическом воспитании»-заочный док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«Музейнай педагогика уонна уерэтии», школьный музей «МЭНЭБИЛ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Учителя, руководители музе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Учителя, студ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Руководители музеев, педаг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. Май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Проблемные курсы ИП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Презентация школьного музея в воспитании подрастающего поко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Руководители музеев, учителя, участники выста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. Май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Улусный смотр-конкурс школьных музе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Презентация на тему к 65 летию Победы в 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Руководители музеев,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077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ема: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Музейная педагогика и изучение родного края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Цели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Увековечение доброй памяти жизни и деятельности предыдущих поколений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Пробуждение интереса учащихся к прошлому своего народа и родного края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Привитие здоровой нравственности, присущей народу саха, новому поко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95280" y="609480"/>
            <a:ext cx="693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Достижения учащихся по итогам поисково-исследовательской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666880" cy="171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3809880"/>
            <a:ext cx="3124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Игнатьева Туя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спубликанская НПК </a:t>
            </a:r>
            <a:r>
              <a:rPr b="1" i="1" lang="en-US" sz="1400" spc="-1" strike="noStrike">
                <a:solidFill>
                  <a:srgbClr val="ff66cc"/>
                </a:solidFill>
                <a:latin typeface="Times New Roman"/>
              </a:rPr>
              <a:t>«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К истокам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Отечества</a:t>
            </a:r>
            <a:r>
              <a:rPr b="1" i="1" lang="en-US" sz="1400" spc="-1" strike="noStrike">
                <a:solidFill>
                  <a:srgbClr val="ff66cc"/>
                </a:solidFill>
                <a:latin typeface="Times New Roman"/>
              </a:rPr>
              <a:t>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есто, экологическая конференция -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2286000" cy="17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3429000" y="37339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тицына 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спубликанская НПК </a:t>
            </a:r>
            <a:r>
              <a:rPr b="1" i="1" lang="en-US" sz="1400" spc="-1" strike="noStrike">
                <a:solidFill>
                  <a:srgbClr val="ff66cc"/>
                </a:solidFill>
                <a:latin typeface="Times New Roman"/>
              </a:rPr>
              <a:t>«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Во имя жизни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на Земле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е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1752480"/>
            <a:ext cx="2590560" cy="1765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562720" y="3733920"/>
            <a:ext cx="3429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аров Ке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спубликанская НПК </a:t>
            </a:r>
            <a:r>
              <a:rPr b="1" i="1" lang="en-US" sz="1400" spc="-1" strike="noStrike">
                <a:solidFill>
                  <a:srgbClr val="ff66cc"/>
                </a:solidFill>
                <a:latin typeface="Times New Roman"/>
              </a:rPr>
              <a:t>«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Малая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сельхозакадемия</a:t>
            </a:r>
            <a:r>
              <a:rPr b="1" i="1" lang="en-US" sz="1400" spc="-1" strike="noStrike">
                <a:solidFill>
                  <a:srgbClr val="ff66cc"/>
                </a:solidFill>
                <a:latin typeface="Times New Roman"/>
              </a:rPr>
              <a:t>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- диплом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еп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НПК </a:t>
            </a:r>
            <a:r>
              <a:rPr b="1" i="1" lang="en-US" sz="1400" spc="-1" strike="noStrike">
                <a:solidFill>
                  <a:srgbClr val="ff66cc"/>
                </a:solidFill>
                <a:latin typeface="Times New Roman"/>
              </a:rPr>
              <a:t>«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Шаг в будущее</a:t>
            </a:r>
            <a:r>
              <a:rPr b="1" i="1" lang="en-US" sz="1400" spc="-1" strike="noStrike">
                <a:solidFill>
                  <a:srgbClr val="ff66cc"/>
                </a:solidFill>
                <a:latin typeface="Times New Roman"/>
              </a:rPr>
              <a:t>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есто, 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экологическая конференция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Республиканское Чугуновское чтение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Среди агротехнически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66cc"/>
                </a:solidFill>
                <a:latin typeface="Times New Roman"/>
              </a:rPr>
              <a:t>шко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—Гран-п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50920" y="1484280"/>
          <a:ext cx="8496000" cy="4363920"/>
        </p:xfrm>
        <a:graphic>
          <a:graphicData uri="http://schemas.openxmlformats.org/drawingml/2006/table">
            <a:tbl>
              <a:tblPr/>
              <a:tblGrid>
                <a:gridCol w="863280"/>
                <a:gridCol w="1816200"/>
                <a:gridCol w="549360"/>
                <a:gridCol w="2000160"/>
                <a:gridCol w="2187720"/>
                <a:gridCol w="1079280"/>
              </a:tblGrid>
              <a:tr h="5806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Секция: Сельскохозяйственные науки                    учитель национальной культуры: Андросова Н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азаров Ке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Региональные Чугуновские 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Сылгыны иитиигэ – айыл5а содул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Гран-при малая акаде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азаров Ке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Сылгыны иитии – барыстаах сала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азаров Ке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Республиканские Чугуновские 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Сылгыны иитиигэ мин кэтээн керуулэри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Охлопков Але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Молодых исследователей «Интеллектуальный потенциал молодежи – селу </a:t>
                      </a: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XXI</a:t>
                      </a: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 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Сылгыны иитиигэ – эьэм улэтин опы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18120" y="549360"/>
            <a:ext cx="8205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ff"/>
                </a:solidFill>
                <a:uFillTx/>
                <a:latin typeface="Arial"/>
              </a:rPr>
              <a:t>Достижения учащихся по итогам поисково-исследовательск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5280" y="765000"/>
          <a:ext cx="8244000" cy="5330880"/>
        </p:xfrm>
        <a:graphic>
          <a:graphicData uri="http://schemas.openxmlformats.org/drawingml/2006/table">
            <a:tbl>
              <a:tblPr/>
              <a:tblGrid>
                <a:gridCol w="838080"/>
                <a:gridCol w="1762200"/>
                <a:gridCol w="531720"/>
                <a:gridCol w="1943280"/>
                <a:gridCol w="2120760"/>
                <a:gridCol w="1047960"/>
              </a:tblGrid>
              <a:tr h="601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Секция: Краеведение                           учитель национальной культуры: Андросова Н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Герасимова М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Эьэм – «Эрчим» ыччат – комсомольскай ферма салайааччы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Плотникова Сарда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Мин эьэм, саллаат, патрио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окольникова То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Дьиэ кэргэн архив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окольникова Над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Роль школьного музея в воспитании учащихс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Шарина Та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Спорт куттаах Шариннар дьиэ кэргэннэрэ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95280" y="404640"/>
          <a:ext cx="8497800" cy="5978520"/>
        </p:xfrm>
        <a:graphic>
          <a:graphicData uri="http://schemas.openxmlformats.org/drawingml/2006/table">
            <a:tbl>
              <a:tblPr/>
              <a:tblGrid>
                <a:gridCol w="857160"/>
                <a:gridCol w="1800360"/>
                <a:gridCol w="544320"/>
                <a:gridCol w="1984680"/>
                <a:gridCol w="2166840"/>
                <a:gridCol w="114444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Птицына 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Республиканская НПК «Во имя жизни на земл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Сэрии дьиэ-кэргэним дьыл5атыга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Игнатьева Туя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еустроевские 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Кыайыыны уьансыбыт Андросовтар айма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диплом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Птицына 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еустроевские 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Сэрии дьиэ-кэргэним дьыл5атыга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Игнатьева Туя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Кыайыыны уьансыбыт Андросовтар айма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Птицына 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Сэрии дьиэ-кэргэним дьыл5атыга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Попова Га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Теруттэрим меценатта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еребряный пр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еустроев Робе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Олох умсул5а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50920" y="620640"/>
          <a:ext cx="8642160" cy="4789440"/>
        </p:xfrm>
        <a:graphic>
          <a:graphicData uri="http://schemas.openxmlformats.org/drawingml/2006/table">
            <a:tbl>
              <a:tblPr/>
              <a:tblGrid>
                <a:gridCol w="644400"/>
                <a:gridCol w="1469880"/>
                <a:gridCol w="679680"/>
                <a:gridCol w="2319120"/>
                <a:gridCol w="2303640"/>
                <a:gridCol w="1225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Попова Га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Всероссийский семинар музейных активов в г.Моск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Герасимова М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Эьэм, эбэм, ыччат наставниктар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Игнатьева Туя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Ларионовские 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Фронтан сурукта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Лауре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Охлопков Але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Дьебегейу кытары 35 сы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Поощрительный пр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Андросов 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«Я и моя семья в колесе истор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Биьиги аймах киэн туттар киьитэ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Поощр.пр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Шарин Ньюргу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Улусное Н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Мэнэ Ханалас улууьугар саахымат сайдыы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Филиппов Ва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Шаг в будуще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Мас чороонун сэьэнэ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95280" y="692280"/>
          <a:ext cx="8229600" cy="46162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569880"/>
                <a:gridCol w="2173320"/>
                <a:gridCol w="1371600"/>
                <a:gridCol w="1371600"/>
              </a:tblGrid>
              <a:tr h="874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екция: Социальные науки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учитель национальной культуры: Андросова Н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Герасимова М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Шаг в будуще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Демографический анализ Мельжехсинского наслег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екция: Духовность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учитель национальной культуры: Андросова Н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Андросов 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ПК Молодых исследователей «Интеллектуальный потенциал молодежи – селу </a:t>
                      </a: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XXI</a:t>
                      </a: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 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«Биьиги аймах киэн туттар киьитэ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14800" y="380880"/>
            <a:ext cx="46483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Учащиеся на основе кропотливой и системно собранных исторических, фольклорных и этнографических материалов, участвуют на научно- исследовательских конференциях, семина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За учебный год юные исследователи работают над темой, выбранной или порученной им, уделяют большое внимание исследовательской работе, обобщению собранных материалов. Рефераты, доклады, творческие работы – вот результаты их поисковы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609480" y="685800"/>
            <a:ext cx="3276720" cy="2101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2197080" cy="3124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08320" y="4327560"/>
            <a:ext cx="482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По итогам исследовательской работы муз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изданы книги к 100-летию школы, к 50-ле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детского сада, к 300-летию насл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4760" y="189000"/>
            <a:ext cx="73393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О учителей эстетическог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625840" cy="180360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408480" y="650880"/>
            <a:ext cx="54165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Андросова Н.К – </a:t>
            </a:r>
            <a:r>
              <a:rPr b="0" i="1" lang="en-US" sz="1300" spc="-1" strike="noStrike">
                <a:solidFill>
                  <a:srgbClr val="0000ff"/>
                </a:solidFill>
                <a:latin typeface="Arial"/>
              </a:rPr>
              <a:t>учитель ЯНК, руководитель М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Иванова О.С. – </a:t>
            </a:r>
            <a:r>
              <a:rPr b="0" i="1" lang="en-US" sz="1300" spc="-1" strike="noStrike">
                <a:solidFill>
                  <a:srgbClr val="0000ff"/>
                </a:solidFill>
                <a:latin typeface="Arial"/>
              </a:rPr>
              <a:t>руководитель круж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Охлопков А. Н. – </a:t>
            </a:r>
            <a:r>
              <a:rPr b="0" i="1" lang="en-US" sz="1300" spc="-1" strike="noStrike">
                <a:solidFill>
                  <a:srgbClr val="0000ff"/>
                </a:solidFill>
                <a:latin typeface="Arial"/>
              </a:rPr>
              <a:t>учитель технолог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Плотникова С.К. – </a:t>
            </a:r>
            <a:r>
              <a:rPr b="0" i="1" lang="en-US" sz="1300" spc="-1" strike="noStrike">
                <a:solidFill>
                  <a:srgbClr val="0000ff"/>
                </a:solidFill>
                <a:latin typeface="Arial"/>
              </a:rPr>
              <a:t>учитель музы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Гаврильева Р.А.. – </a:t>
            </a:r>
            <a:r>
              <a:rPr b="0" i="1" lang="en-US" sz="1300" spc="-1" strike="noStrike">
                <a:solidFill>
                  <a:srgbClr val="0000ff"/>
                </a:solidFill>
                <a:latin typeface="Arial"/>
              </a:rPr>
              <a:t>руководитель круж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Степанов А.В. -  </a:t>
            </a:r>
            <a:r>
              <a:rPr b="0" i="1" lang="en-US" sz="1300" spc="-1" strike="noStrike">
                <a:solidFill>
                  <a:srgbClr val="0000ff"/>
                </a:solidFill>
                <a:latin typeface="Arial"/>
              </a:rPr>
              <a:t>учитель физкультур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Степанов И.В. -  </a:t>
            </a:r>
            <a:r>
              <a:rPr b="0" i="1" lang="en-US" sz="1300" spc="-1" strike="noStrike">
                <a:solidFill>
                  <a:srgbClr val="0000ff"/>
                </a:solidFill>
                <a:latin typeface="Arial"/>
              </a:rPr>
              <a:t>учитель физкультур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Баишева Е.М. – </a:t>
            </a:r>
            <a:r>
              <a:rPr b="0" i="1" lang="en-US" sz="1300" spc="-1" strike="noStrike">
                <a:solidFill>
                  <a:srgbClr val="0000ff"/>
                </a:solidFill>
                <a:latin typeface="Arial"/>
              </a:rPr>
              <a:t>учитель обслуживающего труд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ff"/>
                </a:solidFill>
                <a:latin typeface="Arial"/>
              </a:rPr>
              <a:t>Семенов И.П – </a:t>
            </a:r>
            <a:r>
              <a:rPr b="0" i="1" lang="en-US" sz="1300" spc="-1" strike="noStrike">
                <a:solidFill>
                  <a:srgbClr val="0000ff"/>
                </a:solidFill>
                <a:latin typeface="Arial"/>
              </a:rPr>
              <a:t>тренер ДЮСШ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492280"/>
            <a:ext cx="8366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Методическая тема МО: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 Повышение качества проведения урока через индивидуализацию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0120" y="3274920"/>
            <a:ext cx="2290680" cy="3477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24480" bIns="2448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Заседания</a:t>
            </a:r>
            <a:r>
              <a:rPr b="1" i="1" lang="en-US" sz="1100" spc="-1" strike="noStrike">
                <a:solidFill>
                  <a:srgbClr val="cc0099"/>
                </a:solidFill>
                <a:latin typeface="Arial"/>
              </a:rPr>
              <a:t> М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11520" y="3274920"/>
            <a:ext cx="2127240" cy="366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24480" bIns="2448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Наставниче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48440" y="3274920"/>
            <a:ext cx="2469960" cy="3477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24480" bIns="2448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Внедрени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передового опы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48440" y="3776760"/>
            <a:ext cx="2469960" cy="345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24480" bIns="2448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Декада М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48440" y="4354560"/>
            <a:ext cx="2469960" cy="385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24480" bIns="2448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Arial"/>
              </a:rPr>
              <a:t>Взаимопосещение</a:t>
            </a:r>
            <a:r>
              <a:rPr b="1" lang="ru-RU" sz="1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Arial"/>
              </a:rPr>
              <a:t>уроков, занят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3480" y="4354560"/>
            <a:ext cx="2261880" cy="387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24480" bIns="2448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Работа с одаренны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0120" y="4354560"/>
            <a:ext cx="2330280" cy="385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24480" bIns="2448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Внеклассные занят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0120" y="3776760"/>
            <a:ext cx="2292120" cy="345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24480" bIns="2448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Научно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исследовательска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100" spc="-1" strike="noStrike">
                <a:solidFill>
                  <a:srgbClr val="cc0099"/>
                </a:solidFill>
                <a:latin typeface="Arial"/>
              </a:rPr>
              <a:t>рабо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81360" y="3776760"/>
            <a:ext cx="205740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24480" bIns="2448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Работа М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0400" y="3622320"/>
            <a:ext cx="0" cy="119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4200480"/>
            <a:ext cx="0" cy="149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75200" y="3968640"/>
            <a:ext cx="2444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338640" y="3622320"/>
            <a:ext cx="441360" cy="149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38760" y="3622680"/>
            <a:ext cx="343080" cy="177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68800" y="4122720"/>
            <a:ext cx="490320" cy="17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68920" y="4122720"/>
            <a:ext cx="344520" cy="209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268440" y="3968640"/>
            <a:ext cx="2934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36880" y="2811600"/>
            <a:ext cx="45720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marL="479520" indent="-479520" algn="ctr">
              <a:spcBef>
                <a:spcPts val="4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труктура работы 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5084640"/>
            <a:ext cx="2441520" cy="148608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300720" y="5084640"/>
            <a:ext cx="2262240" cy="1543320"/>
          </a:xfrm>
          <a:prstGeom prst="rect">
            <a:avLst/>
          </a:prstGeom>
          <a:ln w="57240">
            <a:solidFill>
              <a:srgbClr val="009999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408480" y="5157720"/>
            <a:ext cx="2546280" cy="1440000"/>
          </a:xfrm>
          <a:prstGeom prst="rect">
            <a:avLst/>
          </a:prstGeom>
          <a:ln w="57240">
            <a:solidFill>
              <a:srgbClr val="66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Награды  и  поощ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692280"/>
          <a:ext cx="8229600" cy="5835600"/>
        </p:xfrm>
        <a:graphic>
          <a:graphicData uri="http://schemas.openxmlformats.org/drawingml/2006/table">
            <a:tbl>
              <a:tblPr/>
              <a:tblGrid>
                <a:gridCol w="3898800"/>
                <a:gridCol w="15876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гр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трук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видетельство победителя в номинации «Лучшая программа музея»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правление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видетельство «Лучший школьный музей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правление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лагодарственное письм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инистерство образования РС (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четная грамота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правление по делам музеев РС 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четная грам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СКОМ профсоюза РС 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четная грам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правление культуры и духовного развит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нак «Отличник образования РС (Я)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инистерство образования РС (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479840" cy="6166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3084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В воспитании духовной личности одну из основных ролей должна сыграть музейная педагогика и изучение родного края, а местом сосредоточения данной деятельности может стать школьный муз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Э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275360" cy="6172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319640" cy="3098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43210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040000" cy="3525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00720" y="2708280"/>
            <a:ext cx="4643280" cy="3249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39099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0:42:04Z</dcterms:created>
  <dc:creator>User</dc:creator>
  <dc:description/>
  <dc:language>en-US</dc:language>
  <cp:lastModifiedBy>петр</cp:lastModifiedBy>
  <dcterms:modified xsi:type="dcterms:W3CDTF">2010-11-20T03:24:46Z</dcterms:modified>
  <cp:revision>19</cp:revision>
  <dc:subject/>
  <dc:title>Общие сведения об учителе  Фамилия: __   Андросова________________________       Имя: __Надежда_________________________________ Отчество: __Карловна_____________________ Образование: __средне-специальное____________ Учебное заведение:__ЯККИ,педагогическое отделение_____________________________________ Год окончания: __1997__________________________________________ Специальность и квалификация по диплому: ___физика;  физик,учитель физик, астрономии, информатики____ Стаж: Общий стаж работы:__14_лет_____________________________________ Педагогический стаж: ___10 лет_______________________ Стаж работы в данном ОУ:__10 лет_________________</dc:title>
</cp:coreProperties>
</file>